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EE2E-AAA3-42A0-86F3-7DA1CF27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626-9395-4DED-A489-77187E4E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0FCF-EB1C-45EA-A274-B1A040E1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2C29-F9AE-4E55-893B-51F61427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ED0-C61A-49F2-A0CD-B581DD6A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8C6-B319-417F-9BE3-86055B68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2FA-3C7B-4716-A85D-0A186CF7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A3D-066A-4FDD-AB41-BDD566C3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4AC-4465-43B0-8A4E-ADAC0F61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5DA6-4F7A-4620-9EE3-EA2FED7E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126-4486-4E09-AE33-96A76130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6ADA-2996-40EB-9BC4-6A3000D9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CA22-E14D-439C-A068-6CE8B006E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 Book of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Vaiva, Courtney, and Aa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iew with Nijole Pup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21:06:34Z</dcterms:created>
  <dc:creator>Student</dc:creator>
  <dc:description/>
  <dc:language>en-US</dc:language>
  <cp:lastModifiedBy>Student</cp:lastModifiedBy>
  <dcterms:modified xsi:type="dcterms:W3CDTF">2009-01-06T21:06:58Z</dcterms:modified>
  <cp:revision>1</cp:revision>
  <dc:subject/>
  <dc:title>Log Book of 20th century </dc:title>
</cp:coreProperties>
</file>